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7DD-E526-4B31-8308-74EADE14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03A-8B16-42B7-B33D-6BA9DB18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B91-B296-4B99-A14F-A937A945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904-58CB-4FF6-8C8B-85C6565F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CE8-941A-48F2-AFE7-D8D6BDFB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84C-DC6F-471C-8B66-38D973F3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632-2000-42DC-96DE-5EEBF2FA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1D4-1261-4BFF-AA88-60C39D0B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9A0-A233-4933-A049-EE5433F3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0F6-CAA0-4F3D-9939-F725D106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D2B-C448-4919-97D2-B85A4D7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94C-C2A7-47EE-9F01-6A8AA53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30E5-8EE4-4039-AF49-7D4C9C39B4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357880" y="7128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071880" y="2857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2d1a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流程图: 文档 10"/>
          <p:cNvSpPr/>
          <p:nvPr/>
        </p:nvSpPr>
        <p:spPr>
          <a:xfrm>
            <a:off x="1143000" y="1714680"/>
            <a:ext cx="3500280" cy="2786040"/>
          </a:xfrm>
          <a:prstGeom prst="flowChartDocument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流程图: 文档 11"/>
          <p:cNvSpPr/>
          <p:nvPr/>
        </p:nvSpPr>
        <p:spPr>
          <a:xfrm flipH="1">
            <a:off x="4714200" y="1714680"/>
            <a:ext cx="3500280" cy="2786040"/>
          </a:xfrm>
          <a:prstGeom prst="flowChartDocument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59266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4"/>
          <p:cNvSpPr/>
          <p:nvPr/>
        </p:nvSpPr>
        <p:spPr>
          <a:xfrm>
            <a:off x="2283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圆角矩形 9"/>
          <p:cNvSpPr/>
          <p:nvPr/>
        </p:nvSpPr>
        <p:spPr>
          <a:xfrm>
            <a:off x="3071880" y="1785960"/>
            <a:ext cx="4143240" cy="571320"/>
          </a:xfrm>
          <a:prstGeom prst="roundRect">
            <a:avLst>
              <a:gd name="adj" fmla="val 16667"/>
            </a:avLst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0"/>
          <p:cNvSpPr/>
          <p:nvPr/>
        </p:nvSpPr>
        <p:spPr>
          <a:xfrm>
            <a:off x="2428920" y="1785960"/>
            <a:ext cx="571320" cy="571320"/>
          </a:xfrm>
          <a:prstGeom prst="ellipse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11"/>
          <p:cNvSpPr/>
          <p:nvPr/>
        </p:nvSpPr>
        <p:spPr>
          <a:xfrm>
            <a:off x="3071880" y="2500200"/>
            <a:ext cx="4143240" cy="571680"/>
          </a:xfrm>
          <a:prstGeom prst="roundRect">
            <a:avLst>
              <a:gd name="adj" fmla="val 16667"/>
            </a:avLst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2"/>
          <p:cNvSpPr/>
          <p:nvPr/>
        </p:nvSpPr>
        <p:spPr>
          <a:xfrm>
            <a:off x="2428920" y="2500200"/>
            <a:ext cx="571320" cy="571680"/>
          </a:xfrm>
          <a:prstGeom prst="ellipse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13"/>
          <p:cNvSpPr/>
          <p:nvPr/>
        </p:nvSpPr>
        <p:spPr>
          <a:xfrm>
            <a:off x="3071880" y="3214800"/>
            <a:ext cx="4143240" cy="571320"/>
          </a:xfrm>
          <a:prstGeom prst="roundRect">
            <a:avLst>
              <a:gd name="adj" fmla="val 16667"/>
            </a:avLst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2428920" y="3214800"/>
            <a:ext cx="571320" cy="571320"/>
          </a:xfrm>
          <a:prstGeom prst="ellipse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5"/>
          <p:cNvSpPr/>
          <p:nvPr/>
        </p:nvSpPr>
        <p:spPr>
          <a:xfrm>
            <a:off x="3071880" y="3929040"/>
            <a:ext cx="4143240" cy="571680"/>
          </a:xfrm>
          <a:prstGeom prst="roundRect">
            <a:avLst>
              <a:gd name="adj" fmla="val 16667"/>
            </a:avLst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2428920" y="3929040"/>
            <a:ext cx="571320" cy="571680"/>
          </a:xfrm>
          <a:prstGeom prst="ellipse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45709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569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4569120" y="19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>
            <a:off x="4569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21"/>
          <p:cNvSpPr/>
          <p:nvPr/>
        </p:nvSpPr>
        <p:spPr>
          <a:xfrm>
            <a:off x="2612880" y="1855800"/>
            <a:ext cx="5861160" cy="988920"/>
          </a:xfrm>
          <a:custGeom>
            <a:avLst/>
            <a:gdLst/>
            <a:ahLst/>
            <a:rect l="l" t="t" r="r" b="b"/>
            <a:pathLst>
              <a:path w="7085181" h="1244248">
                <a:moveTo>
                  <a:pt x="333395" y="0"/>
                </a:moveTo>
                <a:lnTo>
                  <a:pt x="7085181" y="0"/>
                </a:lnTo>
                <a:lnTo>
                  <a:pt x="6751786" y="1244248"/>
                </a:lnTo>
                <a:lnTo>
                  <a:pt x="0" y="1244248"/>
                </a:lnTo>
                <a:close/>
              </a:path>
            </a:pathLst>
          </a:cu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857160" y="3009960"/>
            <a:ext cx="5861160" cy="988920"/>
          </a:xfrm>
          <a:custGeom>
            <a:avLst/>
            <a:gdLst/>
            <a:ahLst/>
            <a:rect l="l" t="t" r="r" b="b"/>
            <a:pathLst>
              <a:path w="7085181" h="1244248">
                <a:moveTo>
                  <a:pt x="333395" y="0"/>
                </a:moveTo>
                <a:lnTo>
                  <a:pt x="7085181" y="0"/>
                </a:lnTo>
                <a:lnTo>
                  <a:pt x="6751786" y="1244248"/>
                </a:lnTo>
                <a:lnTo>
                  <a:pt x="0" y="1244248"/>
                </a:lnTo>
                <a:close/>
              </a:path>
            </a:pathLst>
          </a:cu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2612880" y="4162320"/>
            <a:ext cx="5861160" cy="989280"/>
          </a:xfrm>
          <a:custGeom>
            <a:avLst/>
            <a:gdLst/>
            <a:ahLst/>
            <a:rect l="l" t="t" r="r" b="b"/>
            <a:pathLst>
              <a:path w="7085181" h="1244248">
                <a:moveTo>
                  <a:pt x="333395" y="0"/>
                </a:moveTo>
                <a:lnTo>
                  <a:pt x="7085181" y="0"/>
                </a:lnTo>
                <a:lnTo>
                  <a:pt x="6751786" y="1244248"/>
                </a:lnTo>
                <a:lnTo>
                  <a:pt x="0" y="1244248"/>
                </a:lnTo>
                <a:close/>
              </a:path>
            </a:pathLst>
          </a:cu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0" descr="1.png"/>
          <p:cNvPicPr/>
          <p:nvPr/>
        </p:nvPicPr>
        <p:blipFill>
          <a:blip r:embed="rId1"/>
          <a:stretch/>
        </p:blipFill>
        <p:spPr>
          <a:xfrm>
            <a:off x="1616040" y="1557360"/>
            <a:ext cx="2212920" cy="1328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1" descr="2.png"/>
          <p:cNvPicPr/>
          <p:nvPr/>
        </p:nvPicPr>
        <p:blipFill>
          <a:blip r:embed="rId2"/>
          <a:stretch/>
        </p:blipFill>
        <p:spPr>
          <a:xfrm>
            <a:off x="6188040" y="2814480"/>
            <a:ext cx="2212920" cy="13287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2" descr="1.png"/>
          <p:cNvPicPr/>
          <p:nvPr/>
        </p:nvPicPr>
        <p:blipFill>
          <a:blip r:embed="rId3"/>
          <a:stretch/>
        </p:blipFill>
        <p:spPr>
          <a:xfrm>
            <a:off x="1044720" y="4029120"/>
            <a:ext cx="2212920" cy="1328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20" descr="10204386_150031738016_2.jpg"/>
          <p:cNvPicPr/>
          <p:nvPr/>
        </p:nvPicPr>
        <p:blipFill>
          <a:blip r:embed="rId1"/>
          <a:stretch/>
        </p:blipFill>
        <p:spPr>
          <a:xfrm>
            <a:off x="1000080" y="1660680"/>
            <a:ext cx="2621160" cy="3840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组合 6" descr=""/>
          <p:cNvPicPr/>
          <p:nvPr/>
        </p:nvPicPr>
        <p:blipFill>
          <a:blip r:embed="rId2"/>
          <a:stretch/>
        </p:blipFill>
        <p:spPr>
          <a:xfrm>
            <a:off x="4041720" y="2928960"/>
            <a:ext cx="987480" cy="988920"/>
          </a:xfrm>
          <a:prstGeom prst="rect">
            <a:avLst/>
          </a:prstGeom>
          <a:ln w="0">
            <a:noFill/>
          </a:ln>
        </p:spPr>
      </p:pic>
      <p:pic>
        <p:nvPicPr>
          <p:cNvPr id="78" name="组合 9" descr=""/>
          <p:cNvPicPr/>
          <p:nvPr/>
        </p:nvPicPr>
        <p:blipFill>
          <a:blip r:embed="rId3"/>
          <a:stretch/>
        </p:blipFill>
        <p:spPr>
          <a:xfrm>
            <a:off x="5197320" y="2928960"/>
            <a:ext cx="989280" cy="988920"/>
          </a:xfrm>
          <a:prstGeom prst="rect">
            <a:avLst/>
          </a:prstGeom>
          <a:ln w="0">
            <a:noFill/>
          </a:ln>
        </p:spPr>
      </p:pic>
      <p:pic>
        <p:nvPicPr>
          <p:cNvPr id="79" name="组合 12" descr=""/>
          <p:cNvPicPr/>
          <p:nvPr/>
        </p:nvPicPr>
        <p:blipFill>
          <a:blip r:embed="rId4"/>
          <a:stretch/>
        </p:blipFill>
        <p:spPr>
          <a:xfrm>
            <a:off x="6354720" y="2928960"/>
            <a:ext cx="988920" cy="988920"/>
          </a:xfrm>
          <a:prstGeom prst="rect">
            <a:avLst/>
          </a:prstGeom>
          <a:ln w="0">
            <a:noFill/>
          </a:ln>
        </p:spPr>
      </p:pic>
      <p:pic>
        <p:nvPicPr>
          <p:cNvPr id="80" name="组合 15" descr=""/>
          <p:cNvPicPr/>
          <p:nvPr/>
        </p:nvPicPr>
        <p:blipFill>
          <a:blip r:embed="rId5"/>
          <a:stretch/>
        </p:blipFill>
        <p:spPr>
          <a:xfrm>
            <a:off x="7512120" y="2928960"/>
            <a:ext cx="988920" cy="988920"/>
          </a:xfrm>
          <a:prstGeom prst="rect">
            <a:avLst/>
          </a:prstGeom>
          <a:ln w="0">
            <a:noFill/>
          </a:ln>
        </p:spPr>
      </p:pic>
      <p:sp>
        <p:nvSpPr>
          <p:cNvPr id="81" name="斜纹 18"/>
          <p:cNvSpPr/>
          <p:nvPr/>
        </p:nvSpPr>
        <p:spPr>
          <a:xfrm>
            <a:off x="1000080" y="16430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lnTo>
                  <a:pt x="180181" y="0"/>
                </a:lnTo>
                <a:lnTo>
                  <a:pt x="360362" y="0"/>
                </a:lnTo>
                <a:lnTo>
                  <a:pt x="0" y="360362"/>
                </a:lnTo>
                <a:close/>
              </a:path>
            </a:pathLst>
          </a:cu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斜纹 19"/>
          <p:cNvSpPr/>
          <p:nvPr/>
        </p:nvSpPr>
        <p:spPr>
          <a:xfrm rot="10800000">
            <a:off x="3282480" y="514008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lnTo>
                  <a:pt x="180181" y="0"/>
                </a:lnTo>
                <a:lnTo>
                  <a:pt x="360362" y="0"/>
                </a:lnTo>
                <a:lnTo>
                  <a:pt x="0" y="360362"/>
                </a:lnTo>
                <a:close/>
              </a:path>
            </a:pathLst>
          </a:cu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6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5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6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6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椭圆 10"/>
          <p:cNvSpPr/>
          <p:nvPr/>
        </p:nvSpPr>
        <p:spPr>
          <a:xfrm>
            <a:off x="1859040" y="1857240"/>
            <a:ext cx="2571840" cy="1357560"/>
          </a:xfrm>
          <a:prstGeom prst="ellipse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1"/>
          <p:cNvSpPr/>
          <p:nvPr/>
        </p:nvSpPr>
        <p:spPr>
          <a:xfrm>
            <a:off x="1785960" y="1714680"/>
            <a:ext cx="2716200" cy="1474560"/>
          </a:xfrm>
          <a:prstGeom prst="ellipse">
            <a:avLst/>
          </a:prstGeom>
          <a:noFill/>
          <a:ln w="25560">
            <a:solidFill>
              <a:srgbClr val="dc2d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2"/>
          <p:cNvSpPr/>
          <p:nvPr/>
        </p:nvSpPr>
        <p:spPr>
          <a:xfrm>
            <a:off x="4716360" y="1857240"/>
            <a:ext cx="2571840" cy="1357560"/>
          </a:xfrm>
          <a:prstGeom prst="ellipse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3"/>
          <p:cNvSpPr/>
          <p:nvPr/>
        </p:nvSpPr>
        <p:spPr>
          <a:xfrm>
            <a:off x="4643280" y="1714680"/>
            <a:ext cx="2716200" cy="1474560"/>
          </a:xfrm>
          <a:prstGeom prst="ellipse">
            <a:avLst/>
          </a:prstGeom>
          <a:noFill/>
          <a:ln w="25560">
            <a:solidFill>
              <a:srgbClr val="dc2d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4"/>
          <p:cNvSpPr/>
          <p:nvPr/>
        </p:nvSpPr>
        <p:spPr>
          <a:xfrm>
            <a:off x="1859040" y="3357720"/>
            <a:ext cx="2571840" cy="1357200"/>
          </a:xfrm>
          <a:prstGeom prst="ellipse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5"/>
          <p:cNvSpPr/>
          <p:nvPr/>
        </p:nvSpPr>
        <p:spPr>
          <a:xfrm>
            <a:off x="1785960" y="3332160"/>
            <a:ext cx="2716200" cy="1474920"/>
          </a:xfrm>
          <a:prstGeom prst="ellipse">
            <a:avLst/>
          </a:prstGeom>
          <a:noFill/>
          <a:ln w="25560">
            <a:solidFill>
              <a:srgbClr val="dc2d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16"/>
          <p:cNvSpPr/>
          <p:nvPr/>
        </p:nvSpPr>
        <p:spPr>
          <a:xfrm>
            <a:off x="4716360" y="3357720"/>
            <a:ext cx="2571840" cy="1357200"/>
          </a:xfrm>
          <a:prstGeom prst="ellipse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17"/>
          <p:cNvSpPr/>
          <p:nvPr/>
        </p:nvSpPr>
        <p:spPr>
          <a:xfrm>
            <a:off x="4643280" y="3332160"/>
            <a:ext cx="2716200" cy="1474920"/>
          </a:xfrm>
          <a:prstGeom prst="ellipse">
            <a:avLst/>
          </a:prstGeom>
          <a:noFill/>
          <a:ln w="25560">
            <a:solidFill>
              <a:srgbClr val="dc2d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568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55695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4"/>
          <p:cNvSpPr/>
          <p:nvPr/>
        </p:nvSpPr>
        <p:spPr>
          <a:xfrm>
            <a:off x="2640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5"/>
          <p:cNvSpPr/>
          <p:nvPr/>
        </p:nvSpPr>
        <p:spPr>
          <a:xfrm>
            <a:off x="5497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流程图: 离页连接符 10"/>
          <p:cNvSpPr/>
          <p:nvPr/>
        </p:nvSpPr>
        <p:spPr>
          <a:xfrm>
            <a:off x="642960" y="2071800"/>
            <a:ext cx="1863720" cy="2106360"/>
          </a:xfrm>
          <a:prstGeom prst="flowChartOffpageConnector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离页连接符 11"/>
          <p:cNvSpPr/>
          <p:nvPr/>
        </p:nvSpPr>
        <p:spPr>
          <a:xfrm>
            <a:off x="2571840" y="2071800"/>
            <a:ext cx="1863720" cy="2106360"/>
          </a:xfrm>
          <a:prstGeom prst="flowChartOffpageConnector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离页连接符 12"/>
          <p:cNvSpPr/>
          <p:nvPr/>
        </p:nvSpPr>
        <p:spPr>
          <a:xfrm>
            <a:off x="4500720" y="2071800"/>
            <a:ext cx="1863720" cy="2106360"/>
          </a:xfrm>
          <a:prstGeom prst="flowChartOffpageConnector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离页连接符 13"/>
          <p:cNvSpPr/>
          <p:nvPr/>
        </p:nvSpPr>
        <p:spPr>
          <a:xfrm>
            <a:off x="6429240" y="2071800"/>
            <a:ext cx="1863720" cy="2106360"/>
          </a:xfrm>
          <a:prstGeom prst="flowChartOffpageConnector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997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68551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997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1068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流程图: 摘录 10"/>
          <p:cNvSpPr/>
          <p:nvPr/>
        </p:nvSpPr>
        <p:spPr>
          <a:xfrm>
            <a:off x="428760" y="1928880"/>
            <a:ext cx="2286000" cy="2643120"/>
          </a:xfrm>
          <a:prstGeom prst="flowChartExtract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流程图: 摘录 11"/>
          <p:cNvSpPr/>
          <p:nvPr/>
        </p:nvSpPr>
        <p:spPr>
          <a:xfrm flipV="1">
            <a:off x="1643040" y="1928880"/>
            <a:ext cx="2286000" cy="2643120"/>
          </a:xfrm>
          <a:prstGeom prst="flowChartExtract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流程图: 摘录 12"/>
          <p:cNvSpPr/>
          <p:nvPr/>
        </p:nvSpPr>
        <p:spPr>
          <a:xfrm>
            <a:off x="2857680" y="1928880"/>
            <a:ext cx="2286000" cy="2643120"/>
          </a:xfrm>
          <a:prstGeom prst="flowChartExtract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流程图: 摘录 13"/>
          <p:cNvSpPr/>
          <p:nvPr/>
        </p:nvSpPr>
        <p:spPr>
          <a:xfrm flipV="1">
            <a:off x="4071960" y="1928880"/>
            <a:ext cx="2286000" cy="2643120"/>
          </a:xfrm>
          <a:prstGeom prst="flowChartExtract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流程图: 摘录 14"/>
          <p:cNvSpPr/>
          <p:nvPr/>
        </p:nvSpPr>
        <p:spPr>
          <a:xfrm>
            <a:off x="5286240" y="1928880"/>
            <a:ext cx="2286000" cy="2643120"/>
          </a:xfrm>
          <a:prstGeom prst="flowChartExtract">
            <a:avLst/>
          </a:pr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流程图: 摘录 15"/>
          <p:cNvSpPr/>
          <p:nvPr/>
        </p:nvSpPr>
        <p:spPr>
          <a:xfrm flipV="1">
            <a:off x="6500880" y="1928880"/>
            <a:ext cx="2286000" cy="2643120"/>
          </a:xfrm>
          <a:prstGeom prst="flowChartExtract">
            <a:avLst/>
          </a:pr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47120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71409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58550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3497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2354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11401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对角圆角矩形 10"/>
          <p:cNvSpPr/>
          <p:nvPr/>
        </p:nvSpPr>
        <p:spPr>
          <a:xfrm>
            <a:off x="2357280" y="3429000"/>
            <a:ext cx="2500560" cy="1785960"/>
          </a:xfrm>
          <a:custGeom>
            <a:avLst/>
            <a:gdLst/>
            <a:ahLst/>
            <a:rect l="l" t="t" r="r" b="b"/>
            <a:pathLst>
              <a:path w="2500312" h="1785937">
                <a:moveTo>
                  <a:pt x="892968" y="0"/>
                </a:moveTo>
                <a:lnTo>
                  <a:pt x="2500312" y="0"/>
                </a:lnTo>
                <a:lnTo>
                  <a:pt x="2500312" y="0"/>
                </a:lnTo>
                <a:lnTo>
                  <a:pt x="2500312" y="892968"/>
                </a:lnTo>
                <a:cubicBezTo>
                  <a:pt x="2500312" y="1386141"/>
                  <a:pt x="2100517" y="1785936"/>
                  <a:pt x="1607344" y="1785936"/>
                </a:cubicBezTo>
                <a:lnTo>
                  <a:pt x="0" y="1785937"/>
                </a:lnTo>
                <a:lnTo>
                  <a:pt x="0" y="1785937"/>
                </a:lnTo>
                <a:lnTo>
                  <a:pt x="0" y="892968"/>
                </a:lnTo>
                <a:cubicBezTo>
                  <a:pt x="0" y="399795"/>
                  <a:pt x="399795" y="0"/>
                  <a:pt x="892968" y="0"/>
                </a:cubicBezTo>
                <a:close/>
              </a:path>
            </a:pathLst>
          </a:cu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对角圆角矩形 11"/>
          <p:cNvSpPr/>
          <p:nvPr/>
        </p:nvSpPr>
        <p:spPr>
          <a:xfrm flipV="1">
            <a:off x="2357280" y="1571040"/>
            <a:ext cx="2500560" cy="1785960"/>
          </a:xfrm>
          <a:custGeom>
            <a:avLst/>
            <a:gdLst/>
            <a:ahLst/>
            <a:rect l="l" t="t" r="r" b="b"/>
            <a:pathLst>
              <a:path w="2500312" h="1785937">
                <a:moveTo>
                  <a:pt x="892968" y="0"/>
                </a:moveTo>
                <a:lnTo>
                  <a:pt x="2500312" y="0"/>
                </a:lnTo>
                <a:lnTo>
                  <a:pt x="2500312" y="0"/>
                </a:lnTo>
                <a:lnTo>
                  <a:pt x="2500312" y="892968"/>
                </a:lnTo>
                <a:cubicBezTo>
                  <a:pt x="2500312" y="1386141"/>
                  <a:pt x="2100517" y="1785936"/>
                  <a:pt x="1607344" y="1785936"/>
                </a:cubicBezTo>
                <a:lnTo>
                  <a:pt x="0" y="1785937"/>
                </a:lnTo>
                <a:lnTo>
                  <a:pt x="0" y="1785937"/>
                </a:lnTo>
                <a:lnTo>
                  <a:pt x="0" y="892968"/>
                </a:lnTo>
                <a:cubicBezTo>
                  <a:pt x="0" y="399795"/>
                  <a:pt x="399795" y="0"/>
                  <a:pt x="892968" y="0"/>
                </a:cubicBezTo>
                <a:close/>
              </a:path>
            </a:pathLst>
          </a:cu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对角圆角矩形 12"/>
          <p:cNvSpPr/>
          <p:nvPr/>
        </p:nvSpPr>
        <p:spPr>
          <a:xfrm flipH="1" flipV="1">
            <a:off x="4929120" y="1571040"/>
            <a:ext cx="2500560" cy="1785960"/>
          </a:xfrm>
          <a:custGeom>
            <a:avLst/>
            <a:gdLst/>
            <a:ahLst/>
            <a:rect l="l" t="t" r="r" b="b"/>
            <a:pathLst>
              <a:path w="2500312" h="1785937">
                <a:moveTo>
                  <a:pt x="892968" y="0"/>
                </a:moveTo>
                <a:lnTo>
                  <a:pt x="2500312" y="0"/>
                </a:lnTo>
                <a:lnTo>
                  <a:pt x="2500312" y="0"/>
                </a:lnTo>
                <a:lnTo>
                  <a:pt x="2500312" y="892968"/>
                </a:lnTo>
                <a:cubicBezTo>
                  <a:pt x="2500312" y="1386141"/>
                  <a:pt x="2100517" y="1785936"/>
                  <a:pt x="1607344" y="1785936"/>
                </a:cubicBezTo>
                <a:lnTo>
                  <a:pt x="0" y="1785937"/>
                </a:lnTo>
                <a:lnTo>
                  <a:pt x="0" y="1785937"/>
                </a:lnTo>
                <a:lnTo>
                  <a:pt x="0" y="892968"/>
                </a:lnTo>
                <a:cubicBezTo>
                  <a:pt x="0" y="399795"/>
                  <a:pt x="399795" y="0"/>
                  <a:pt x="892968" y="0"/>
                </a:cubicBezTo>
                <a:close/>
              </a:path>
            </a:pathLst>
          </a:custGeom>
          <a:solidFill>
            <a:srgbClr val="dc2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对角圆角矩形 13"/>
          <p:cNvSpPr/>
          <p:nvPr/>
        </p:nvSpPr>
        <p:spPr>
          <a:xfrm flipH="1">
            <a:off x="4929120" y="3429000"/>
            <a:ext cx="2500560" cy="1785960"/>
          </a:xfrm>
          <a:custGeom>
            <a:avLst/>
            <a:gdLst/>
            <a:ahLst/>
            <a:rect l="l" t="t" r="r" b="b"/>
            <a:pathLst>
              <a:path w="2500312" h="1785937">
                <a:moveTo>
                  <a:pt x="892968" y="0"/>
                </a:moveTo>
                <a:lnTo>
                  <a:pt x="2500312" y="0"/>
                </a:lnTo>
                <a:lnTo>
                  <a:pt x="2500312" y="0"/>
                </a:lnTo>
                <a:lnTo>
                  <a:pt x="2500312" y="892968"/>
                </a:lnTo>
                <a:cubicBezTo>
                  <a:pt x="2500312" y="1386141"/>
                  <a:pt x="2100517" y="1785936"/>
                  <a:pt x="1607344" y="1785936"/>
                </a:cubicBezTo>
                <a:lnTo>
                  <a:pt x="0" y="1785937"/>
                </a:lnTo>
                <a:lnTo>
                  <a:pt x="0" y="1785937"/>
                </a:lnTo>
                <a:lnTo>
                  <a:pt x="0" y="892968"/>
                </a:lnTo>
                <a:cubicBezTo>
                  <a:pt x="0" y="399795"/>
                  <a:pt x="399795" y="0"/>
                  <a:pt x="892968" y="0"/>
                </a:cubicBezTo>
                <a:close/>
              </a:path>
            </a:pathLst>
          </a:custGeom>
          <a:solidFill>
            <a:srgbClr val="e76e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32835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712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31406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5569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4570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3"/>
          <p:cNvSpPr/>
          <p:nvPr/>
        </p:nvSpPr>
        <p:spPr>
          <a:xfrm>
            <a:off x="46422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4570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5"/>
          <p:cNvSpPr/>
          <p:nvPr/>
        </p:nvSpPr>
        <p:spPr>
          <a:xfrm>
            <a:off x="45709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4"/>
          <p:cNvGrpSpPr/>
          <p:nvPr/>
        </p:nvGrpSpPr>
        <p:grpSpPr>
          <a:xfrm>
            <a:off x="2859120" y="1285920"/>
            <a:ext cx="1189080" cy="4645080"/>
            <a:chOff x="2859120" y="1285920"/>
            <a:chExt cx="1189080" cy="4645080"/>
          </a:xfrm>
        </p:grpSpPr>
        <p:sp>
          <p:nvSpPr>
            <p:cNvPr id="153" name="虚尾箭头 10"/>
            <p:cNvSpPr/>
            <p:nvPr/>
          </p:nvSpPr>
          <p:spPr>
            <a:xfrm>
              <a:off x="2859120" y="1285920"/>
              <a:ext cx="1189080" cy="1133280"/>
            </a:xfrm>
            <a:custGeom>
              <a:avLst/>
              <a:gdLst/>
              <a:ahLst/>
              <a:rect l="l" t="t" r="r" b="b"/>
              <a:pathLst>
                <a:path w="1500198" h="1429444">
                  <a:moveTo>
                    <a:pt x="0" y="357361"/>
                  </a:moveTo>
                  <a:lnTo>
                    <a:pt x="44670" y="357361"/>
                  </a:lnTo>
                  <a:lnTo>
                    <a:pt x="44670" y="1072083"/>
                  </a:lnTo>
                  <a:lnTo>
                    <a:pt x="0" y="1072083"/>
                  </a:lnTo>
                  <a:close/>
                  <a:moveTo>
                    <a:pt x="89340" y="357361"/>
                  </a:moveTo>
                  <a:lnTo>
                    <a:pt x="178680" y="357361"/>
                  </a:lnTo>
                  <a:lnTo>
                    <a:pt x="178680" y="1072083"/>
                  </a:lnTo>
                  <a:lnTo>
                    <a:pt x="89340" y="1072083"/>
                  </a:lnTo>
                  <a:close/>
                  <a:moveTo>
                    <a:pt x="223350" y="357361"/>
                  </a:moveTo>
                  <a:lnTo>
                    <a:pt x="785476" y="357361"/>
                  </a:lnTo>
                  <a:lnTo>
                    <a:pt x="785476" y="0"/>
                  </a:lnTo>
                  <a:lnTo>
                    <a:pt x="1500198" y="714722"/>
                  </a:lnTo>
                  <a:lnTo>
                    <a:pt x="785476" y="1429444"/>
                  </a:lnTo>
                  <a:lnTo>
                    <a:pt x="785476" y="1072083"/>
                  </a:lnTo>
                  <a:lnTo>
                    <a:pt x="223350" y="1072083"/>
                  </a:lnTo>
                  <a:close/>
                </a:path>
              </a:pathLst>
            </a:custGeom>
            <a:solidFill>
              <a:srgbClr val="dc2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虚尾箭头 11"/>
            <p:cNvSpPr/>
            <p:nvPr/>
          </p:nvSpPr>
          <p:spPr>
            <a:xfrm>
              <a:off x="2859120" y="2475000"/>
              <a:ext cx="1189080" cy="1133280"/>
            </a:xfrm>
            <a:custGeom>
              <a:avLst/>
              <a:gdLst/>
              <a:ahLst/>
              <a:rect l="l" t="t" r="r" b="b"/>
              <a:pathLst>
                <a:path w="1500198" h="1429444">
                  <a:moveTo>
                    <a:pt x="0" y="357361"/>
                  </a:moveTo>
                  <a:lnTo>
                    <a:pt x="44670" y="357361"/>
                  </a:lnTo>
                  <a:lnTo>
                    <a:pt x="44670" y="1072083"/>
                  </a:lnTo>
                  <a:lnTo>
                    <a:pt x="0" y="1072083"/>
                  </a:lnTo>
                  <a:close/>
                  <a:moveTo>
                    <a:pt x="89340" y="357361"/>
                  </a:moveTo>
                  <a:lnTo>
                    <a:pt x="178680" y="357361"/>
                  </a:lnTo>
                  <a:lnTo>
                    <a:pt x="178680" y="1072083"/>
                  </a:lnTo>
                  <a:lnTo>
                    <a:pt x="89340" y="1072083"/>
                  </a:lnTo>
                  <a:close/>
                  <a:moveTo>
                    <a:pt x="223350" y="357361"/>
                  </a:moveTo>
                  <a:lnTo>
                    <a:pt x="785476" y="357361"/>
                  </a:lnTo>
                  <a:lnTo>
                    <a:pt x="785476" y="0"/>
                  </a:lnTo>
                  <a:lnTo>
                    <a:pt x="1500198" y="714722"/>
                  </a:lnTo>
                  <a:lnTo>
                    <a:pt x="785476" y="1429444"/>
                  </a:lnTo>
                  <a:lnTo>
                    <a:pt x="785476" y="1072083"/>
                  </a:lnTo>
                  <a:lnTo>
                    <a:pt x="223350" y="1072083"/>
                  </a:lnTo>
                  <a:close/>
                </a:path>
              </a:pathLst>
            </a:custGeom>
            <a:solidFill>
              <a:srgbClr val="e76e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虚尾箭头 12"/>
            <p:cNvSpPr/>
            <p:nvPr/>
          </p:nvSpPr>
          <p:spPr>
            <a:xfrm>
              <a:off x="2859120" y="3608640"/>
              <a:ext cx="1189080" cy="1133280"/>
            </a:xfrm>
            <a:custGeom>
              <a:avLst/>
              <a:gdLst/>
              <a:ahLst/>
              <a:rect l="l" t="t" r="r" b="b"/>
              <a:pathLst>
                <a:path w="1500198" h="1429444">
                  <a:moveTo>
                    <a:pt x="0" y="357361"/>
                  </a:moveTo>
                  <a:lnTo>
                    <a:pt x="44670" y="357361"/>
                  </a:lnTo>
                  <a:lnTo>
                    <a:pt x="44670" y="1072083"/>
                  </a:lnTo>
                  <a:lnTo>
                    <a:pt x="0" y="1072083"/>
                  </a:lnTo>
                  <a:close/>
                  <a:moveTo>
                    <a:pt x="89340" y="357361"/>
                  </a:moveTo>
                  <a:lnTo>
                    <a:pt x="178680" y="357361"/>
                  </a:lnTo>
                  <a:lnTo>
                    <a:pt x="178680" y="1072083"/>
                  </a:lnTo>
                  <a:lnTo>
                    <a:pt x="89340" y="1072083"/>
                  </a:lnTo>
                  <a:close/>
                  <a:moveTo>
                    <a:pt x="223350" y="357361"/>
                  </a:moveTo>
                  <a:lnTo>
                    <a:pt x="785476" y="357361"/>
                  </a:lnTo>
                  <a:lnTo>
                    <a:pt x="785476" y="0"/>
                  </a:lnTo>
                  <a:lnTo>
                    <a:pt x="1500198" y="714722"/>
                  </a:lnTo>
                  <a:lnTo>
                    <a:pt x="785476" y="1429444"/>
                  </a:lnTo>
                  <a:lnTo>
                    <a:pt x="785476" y="1072083"/>
                  </a:lnTo>
                  <a:lnTo>
                    <a:pt x="223350" y="1072083"/>
                  </a:lnTo>
                  <a:close/>
                </a:path>
              </a:pathLst>
            </a:custGeom>
            <a:solidFill>
              <a:srgbClr val="dc2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虚尾箭头 13"/>
            <p:cNvSpPr/>
            <p:nvPr/>
          </p:nvSpPr>
          <p:spPr>
            <a:xfrm>
              <a:off x="2859120" y="4797720"/>
              <a:ext cx="1189080" cy="1133280"/>
            </a:xfrm>
            <a:custGeom>
              <a:avLst/>
              <a:gdLst/>
              <a:ahLst/>
              <a:rect l="l" t="t" r="r" b="b"/>
              <a:pathLst>
                <a:path w="1500198" h="1429444">
                  <a:moveTo>
                    <a:pt x="0" y="357361"/>
                  </a:moveTo>
                  <a:lnTo>
                    <a:pt x="44670" y="357361"/>
                  </a:lnTo>
                  <a:lnTo>
                    <a:pt x="44670" y="1072083"/>
                  </a:lnTo>
                  <a:lnTo>
                    <a:pt x="0" y="1072083"/>
                  </a:lnTo>
                  <a:close/>
                  <a:moveTo>
                    <a:pt x="89340" y="357361"/>
                  </a:moveTo>
                  <a:lnTo>
                    <a:pt x="178680" y="357361"/>
                  </a:lnTo>
                  <a:lnTo>
                    <a:pt x="178680" y="1072083"/>
                  </a:lnTo>
                  <a:lnTo>
                    <a:pt x="89340" y="1072083"/>
                  </a:lnTo>
                  <a:close/>
                  <a:moveTo>
                    <a:pt x="223350" y="357361"/>
                  </a:moveTo>
                  <a:lnTo>
                    <a:pt x="785476" y="357361"/>
                  </a:lnTo>
                  <a:lnTo>
                    <a:pt x="785476" y="0"/>
                  </a:lnTo>
                  <a:lnTo>
                    <a:pt x="1500198" y="714722"/>
                  </a:lnTo>
                  <a:lnTo>
                    <a:pt x="785476" y="1429444"/>
                  </a:lnTo>
                  <a:lnTo>
                    <a:pt x="785476" y="1072083"/>
                  </a:lnTo>
                  <a:lnTo>
                    <a:pt x="223350" y="1072083"/>
                  </a:lnTo>
                  <a:close/>
                </a:path>
              </a:pathLst>
            </a:custGeom>
            <a:solidFill>
              <a:srgbClr val="e76e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</cp:lastModifiedBy>
  <dcterms:modified xsi:type="dcterms:W3CDTF">2017-08-01T06:30:58Z</dcterms:modified>
  <cp:revision>3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